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C14-30EB-4A95-8E68-DBF7D3C8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FF7-0255-4266-804E-CE653489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EBE-8B0F-466A-9D4F-435B23E4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D0B-C816-4A99-8682-01242CD1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F89-6CD2-449A-AD6E-E3F09FCF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409-5487-44D6-949E-7B810633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BCF-F2E2-4163-978C-CCE4AA4F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631-4213-4A81-AF53-DCA0E29E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214-24AA-4E0D-A9B6-35CE1310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048-9FF9-489A-AB79-17707750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4ED-FAC3-43AC-9EC3-26AF03C9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73B-FE0C-4FB9-9D24-594B30E1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932D-211A-4BAD-8C30-6D9D10A07E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457200"/>
            <a:ext cx="2514600" cy="76212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Pensionati Tot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16.700.000 ci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9880" y="1373040"/>
          <a:ext cx="793728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373040"/>
                    <a:ext cx="79372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762120" y="1523880"/>
          <a:ext cx="7323120" cy="446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523880"/>
                    <a:ext cx="732312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839880" y="1003320"/>
          <a:ext cx="7773840" cy="464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003320"/>
                    <a:ext cx="777384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304920"/>
            <a:ext cx="7391520" cy="52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GLIONI PER IMPORTO IN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19320" y="1227240"/>
          <a:ext cx="6781680" cy="44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27240"/>
                    <a:ext cx="6781680" cy="44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38080" y="1198440"/>
          <a:ext cx="7696440" cy="459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98440"/>
                    <a:ext cx="769644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14400" y="304920"/>
            <a:ext cx="7391520" cy="52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GLIONI PER IMPORTO IN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4:46:14Z</dcterms:created>
  <dc:creator>attilio.rimoldi</dc:creator>
  <dc:description/>
  <dc:language>en-US</dc:language>
  <cp:lastModifiedBy>attilio.rimoldi</cp:lastModifiedBy>
  <dcterms:modified xsi:type="dcterms:W3CDTF">2008-03-05T21:55:58Z</dcterms:modified>
  <cp:revision>2</cp:revision>
  <dc:subject/>
  <dc:title>Presentazione di PowerPoint</dc:title>
</cp:coreProperties>
</file>